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20B1-7FF9-4EDB-9B40-574AB57A8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07DC-BBB1-4EFF-B107-C6481D5F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F15D-2913-4E96-963B-4AED87EB9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62AE-9A26-4690-B330-839D9EF6B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86B5-6D7F-40BC-B96C-4189C1760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2917-05B5-4498-A0C1-30A79B79D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C587-5E13-4CB0-98D4-287A700A1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14D8-11F1-4776-BC28-25A3D5CDE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2992-329A-41CD-8C41-24CDF02F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0C45-A60A-40FC-B003-B87B18DB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69F4-B324-44FD-B9BB-4CB1C695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4284-AF6F-4D12-94B9-E6145C93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30F6D-13DA-4463-88DB-E5132A837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timeanddate.com/calendar/monthly.html?year=2007&amp;month=1&amp;country=1" TargetMode="External"/><Relationship Id="rId2" Type="http://schemas.openxmlformats.org/officeDocument/2006/relationships/hyperlink" Target="http://www.timeanddate.com/calendar/monthly.html?year=2007&amp;month=2&amp;country=1" TargetMode="External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mpiler Construction, Revised 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832120" y="1187280"/>
            <a:ext cx="44323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exical Analys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Theory of Context Free Grammars (CFGs) and Predictive (recursive descent) Par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Variables, Scope, Typ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Machine abstrac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Procedures, Functions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Procedures, Functions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 Black"/>
              </a:rPr>
              <a:t>MinCaml middle-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Assembly code, linker, load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 Black"/>
              </a:rPr>
              <a:t>MinCaml back-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Garbage Collec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Object Orient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Interpreters, Byte Code interpreters, virtual mach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Re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4920" y="1687680"/>
            <a:ext cx="2099160" cy="3987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anuary 2007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  T  W  T   F   S 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  2   3   4   5   6  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   9 10 11 12 13 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 16 17 18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4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30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ebruary 2007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  T  W  T   F   S 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3  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6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7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8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0 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3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5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7 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0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2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4 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7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55880" y="37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16280" y="2793960"/>
            <a:ext cx="4537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28880" y="3925800"/>
            <a:ext cx="4537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104240" y="1330200"/>
            <a:ext cx="233280" cy="1403640"/>
          </a:xfrm>
          <a:custGeom>
            <a:avLst/>
            <a:gdLst>
              <a:gd name="textAreaLeft" fmla="*/ 0 w 233280"/>
              <a:gd name="textAreaRight" fmla="*/ 84240 w 233280"/>
              <a:gd name="textAreaTop" fmla="*/ 36360 h 1403640"/>
              <a:gd name="textAreaBottom" fmla="*/ 1367280 h 140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481160" y="1731960"/>
            <a:ext cx="108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ront-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82000" y="4871880"/>
            <a:ext cx="198360" cy="1287720"/>
          </a:xfrm>
          <a:custGeom>
            <a:avLst/>
            <a:gdLst>
              <a:gd name="textAreaLeft" fmla="*/ 0 w 198360"/>
              <a:gd name="textAreaRight" fmla="*/ 71640 w 198360"/>
              <a:gd name="textAreaTop" fmla="*/ 33480 h 1287720"/>
              <a:gd name="textAreaBottom" fmla="*/ 1254240 h 1287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61880" y="5024520"/>
            <a:ext cx="84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pe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op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162920" y="2863800"/>
            <a:ext cx="183960" cy="965160"/>
          </a:xfrm>
          <a:custGeom>
            <a:avLst/>
            <a:gdLst>
              <a:gd name="textAreaLeft" fmla="*/ 0 w 183960"/>
              <a:gd name="textAreaRight" fmla="*/ 66240 w 183960"/>
              <a:gd name="textAreaTop" fmla="*/ 24840 h 965160"/>
              <a:gd name="textAreaBottom" fmla="*/ 940320 h 965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11320" y="4680000"/>
            <a:ext cx="4537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147080" y="4068720"/>
            <a:ext cx="207720" cy="514440"/>
          </a:xfrm>
          <a:custGeom>
            <a:avLst/>
            <a:gdLst>
              <a:gd name="textAreaLeft" fmla="*/ 0 w 207720"/>
              <a:gd name="textAreaRight" fmla="*/ 74880 w 207720"/>
              <a:gd name="textAreaTop" fmla="*/ 13320 h 514440"/>
              <a:gd name="textAreaBottom" fmla="*/ 501120 h 51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480800" y="3094200"/>
            <a:ext cx="126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iddle-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03200" y="4260960"/>
            <a:ext cx="105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ack-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DAC3-4AD1-48B7-9A17-95BF0DF26E0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18T23:26:11Z</dcterms:modified>
  <cp:revision>292</cp:revision>
  <dc:subject/>
  <dc:title>Slide 1</dc:title>
</cp:coreProperties>
</file>